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6BE5-AEC9-4065-BE8B-49C9C51A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B07F-56E8-48C8-B1F2-08886574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6DD5-B927-4BDA-8D69-3C98D8471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D7EB-D9D7-4DCD-8334-A63D8451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8FC9-8109-4503-976D-4802C164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A42C-41EB-409E-A343-2E93AA62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1C39-0988-4CDD-9879-B6445DFB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ED28-61A0-476C-B2FA-5B2B920A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BA6B-0BFE-4C35-B2CC-050544AF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8E65-F13D-4C33-9064-E4035068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55C7-546A-4309-99C3-40080587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F9BC-CA93-4AEF-839A-AAD35EA8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8A41-BF00-40F0-9EF7-D7A54CB96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6:37:06Z</dcterms:created>
  <dc:creator>abeason</dc:creator>
  <dc:description/>
  <dc:language>en-US</dc:language>
  <cp:lastModifiedBy>abeason</cp:lastModifiedBy>
  <dcterms:modified xsi:type="dcterms:W3CDTF">2009-05-27T16:37:09Z</dcterms:modified>
  <cp:revision>1</cp:revision>
  <dc:subject/>
  <dc:title>Slide 1</dc:title>
</cp:coreProperties>
</file>